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80B-774C-49D2-93D9-2BAAF6A2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C951-586A-4E6C-8928-33A67EDF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F22-FC9D-42AF-95F7-5B560A9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D37-65FE-4136-B987-BB990D3F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2AF-F5FF-4CD8-8131-1A9DA47C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B81-4B64-4D9F-AEA7-F635DB3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5A2-421A-4E4C-BCF4-F9EFC6E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3E6-3B40-4D2E-B7E4-696FF7E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B45-E4BD-4F49-A293-C77E31A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822-1A4F-4EAA-A792-8BC4E1C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0B5-4600-4C6F-88E8-0ACED2F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78C-6BE3-4701-9D64-0A7A60A4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641-C4DF-45D7-8B17-093DCCA6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lum contrast="6000"/>
            <a:alphaModFix amt="98000"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3b2</cp:lastModifiedBy>
  <dcterms:modified xsi:type="dcterms:W3CDTF">2007-05-03T02:25:55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